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C75D-FA67-4661-B638-E9F87A7EE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0C7C-14FE-4364-8DD8-78D67C701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B641-37A9-4D7F-86F0-ABFC0FC7F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C15E-9A39-43D5-9913-147D06B32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BC1D-2D91-437D-A092-1EF992CFA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94B6-BF0D-4CB5-80AE-16E14D5DB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E26D-EA36-4DBA-B8BC-BCECE51D6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8AC7-FB8D-4C8E-815B-63988978B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4654-2048-482A-9B7C-F61451E8E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6D2E-DCC8-482B-8EC2-59C87E32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150B-8CC9-4584-8B5C-55AB3A56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DCAF-A70D-4053-9189-28F6CEB8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DBEBA-4192-42F4-AE10-7627CCD946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Statistical Inference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Review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990720" y="838080"/>
            <a:ext cx="74674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7460"/>
          <a:stretch/>
        </p:blipFill>
        <p:spPr>
          <a:xfrm>
            <a:off x="914400" y="914400"/>
            <a:ext cx="7238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0" b="28815"/>
          <a:stretch/>
        </p:blipFill>
        <p:spPr>
          <a:xfrm>
            <a:off x="990720" y="685800"/>
            <a:ext cx="72388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0" b="28815"/>
          <a:stretch/>
        </p:blipFill>
        <p:spPr>
          <a:xfrm>
            <a:off x="990720" y="457200"/>
            <a:ext cx="7238880" cy="40384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066680" y="4572000"/>
            <a:ext cx="70866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0" b="31456"/>
          <a:stretch/>
        </p:blipFill>
        <p:spPr>
          <a:xfrm>
            <a:off x="990720" y="685800"/>
            <a:ext cx="70866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990720" y="762120"/>
            <a:ext cx="73152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0" r="0" b="28815"/>
          <a:stretch/>
        </p:blipFill>
        <p:spPr>
          <a:xfrm>
            <a:off x="914400" y="838080"/>
            <a:ext cx="73915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143000" y="914400"/>
            <a:ext cx="7162920" cy="5105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705720" y="5715000"/>
            <a:ext cx="1523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0" b="18213"/>
          <a:stretch/>
        </p:blipFill>
        <p:spPr>
          <a:xfrm>
            <a:off x="1295280" y="762120"/>
            <a:ext cx="6629400" cy="3429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371600" y="4343400"/>
            <a:ext cx="64771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0" r="0" b="32695"/>
          <a:stretch/>
        </p:blipFill>
        <p:spPr>
          <a:xfrm>
            <a:off x="1600200" y="838080"/>
            <a:ext cx="6400800" cy="3276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rcRect l="0" t="80911" r="0" b="10264"/>
          <a:stretch/>
        </p:blipFill>
        <p:spPr>
          <a:xfrm>
            <a:off x="1600200" y="4114800"/>
            <a:ext cx="6400800" cy="600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038480" y="3886200"/>
            <a:ext cx="152424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553080" y="4343400"/>
            <a:ext cx="12956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676520" y="4724280"/>
            <a:ext cx="624816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15559"/>
          <a:stretch/>
        </p:blipFill>
        <p:spPr>
          <a:xfrm>
            <a:off x="1066680" y="762120"/>
            <a:ext cx="7086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0" r="0" b="56252"/>
          <a:stretch/>
        </p:blipFill>
        <p:spPr>
          <a:xfrm>
            <a:off x="914400" y="762120"/>
            <a:ext cx="7467480" cy="2724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rcRect l="0" t="62511" r="0" b="8336"/>
          <a:stretch/>
        </p:blipFill>
        <p:spPr>
          <a:xfrm>
            <a:off x="914400" y="3429000"/>
            <a:ext cx="74674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50332" r="0" b="12918"/>
          <a:stretch/>
        </p:blipFill>
        <p:spPr>
          <a:xfrm>
            <a:off x="1295280" y="2514600"/>
            <a:ext cx="6858000" cy="3429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rcRect l="0" t="0" r="0" b="68219"/>
          <a:stretch/>
        </p:blipFill>
        <p:spPr>
          <a:xfrm>
            <a:off x="1295280" y="1219320"/>
            <a:ext cx="6858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0" t="76255" r="0" b="12918"/>
          <a:stretch/>
        </p:blipFill>
        <p:spPr>
          <a:xfrm>
            <a:off x="1143000" y="4648320"/>
            <a:ext cx="6781680" cy="838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rcRect l="0" t="50332" r="0" b="12918"/>
          <a:stretch/>
        </p:blipFill>
        <p:spPr>
          <a:xfrm>
            <a:off x="1143000" y="2209680"/>
            <a:ext cx="6781680" cy="25146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rcRect l="0" t="0" r="0" b="68219"/>
          <a:stretch/>
        </p:blipFill>
        <p:spPr>
          <a:xfrm>
            <a:off x="1143000" y="914400"/>
            <a:ext cx="67816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rcRect l="0" t="55301" r="0" b="10264"/>
          <a:stretch/>
        </p:blipFill>
        <p:spPr>
          <a:xfrm>
            <a:off x="1219320" y="990720"/>
            <a:ext cx="6858000" cy="2286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rcRect l="0" t="57955" r="0" b="10264"/>
          <a:stretch/>
        </p:blipFill>
        <p:spPr>
          <a:xfrm>
            <a:off x="1295280" y="3657600"/>
            <a:ext cx="67820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990720" y="838080"/>
            <a:ext cx="701028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685800" y="609480"/>
            <a:ext cx="77724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0" t="0" r="0" b="7798"/>
          <a:stretch/>
        </p:blipFill>
        <p:spPr>
          <a:xfrm>
            <a:off x="1066680" y="609480"/>
            <a:ext cx="7239240" cy="5410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451880" y="914400"/>
            <a:ext cx="639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he Incident:  The Sinking of the Titan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0" t="0" r="0" b="25836"/>
          <a:stretch/>
        </p:blipFill>
        <p:spPr>
          <a:xfrm>
            <a:off x="838080" y="533520"/>
            <a:ext cx="73915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914400" y="685800"/>
            <a:ext cx="73915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990720" y="685800"/>
            <a:ext cx="73911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990720" y="838080"/>
            <a:ext cx="74674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52660"/>
          <a:stretch/>
        </p:blipFill>
        <p:spPr>
          <a:xfrm>
            <a:off x="1066680" y="1371600"/>
            <a:ext cx="68580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55301"/>
          <a:stretch/>
        </p:blipFill>
        <p:spPr>
          <a:xfrm>
            <a:off x="1295280" y="1295280"/>
            <a:ext cx="67820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44711"/>
          <a:stretch/>
        </p:blipFill>
        <p:spPr>
          <a:xfrm>
            <a:off x="1219320" y="1143000"/>
            <a:ext cx="6858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143000" y="914400"/>
            <a:ext cx="70102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0-31T02:28:36Z</dcterms:modified>
  <cp:revision>44</cp:revision>
  <dc:subject/>
  <dc:title>PowerPoint Presentation</dc:title>
</cp:coreProperties>
</file>